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411-2251-44A1-BB71-43B02C63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8CC-1B8E-4658-BC4C-03D3872D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C86-C9F4-4519-A2FB-F6959CB1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0C2-E33E-4889-A227-7518EF51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10C-3F9D-4807-9F8E-8D39D299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167-D240-4CFB-83DD-DFC080BF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A94-7A62-4668-ABBD-65D4C365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9C7-AA98-497F-944C-50070B59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DD8-4AD5-4423-93D8-F1EE192D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B0C-F3B5-4CC6-B54A-DE3E5FCD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47B-183A-4F0C-8D15-0ECBB17D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1A44-07C0-460F-8E37-3F76D6C3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5825-DD79-4535-A0CD-A8AF763BD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451070cXNiyMwIs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1120" y="0"/>
            <a:ext cx="6133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َجمَلَ أن نَجْتَمِعَ مع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بِالحُبِّ يَقولُ الربُّ لنا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ما اجتَمعَ باسمي اثنانِ معا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اّ وهُنَاكَ أكونُ أنا(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19920" y="1981080"/>
            <a:ext cx="5061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 رب تعال الآن هنا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نَدْعوكَ تعالَ وكُنْ مَعَنا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ِنْ روحِكَ املأنا فرحاً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سَلاماً لايعطيهِ غِنَا(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67160" y="4572000"/>
            <a:ext cx="4993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 أنت لنا عونٌ وسَنَد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في كُلِّ طريقٍ نَسْلُكُهُ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َصديقٌ ليسَ سواه نج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نُعطيهِ القَلْبَ نملّكُهُ  (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931661wAIAZzQGtM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84840" y="0"/>
            <a:ext cx="2781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بُّ هُ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دَوماً مَعَ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ما أجمَلُه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أسعَدَنا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َنُكَلّمه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سَيَسْمعُ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َيَبقى لن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نا ومَعَنا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5562720"/>
            <a:ext cx="64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رب تعال الآن هنا    نَدْعوكَ تعال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كُنْ مَعَنا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ِنْ روحِكَ املأنا فرحاً     وسَلاماً لايعطيهِ غِنَا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36:08Z</dcterms:created>
  <dc:creator>USER</dc:creator>
  <dc:description/>
  <dc:language>en-US</dc:language>
  <cp:lastModifiedBy>USER</cp:lastModifiedBy>
  <dcterms:modified xsi:type="dcterms:W3CDTF">2002-10-30T15:38:51Z</dcterms:modified>
  <cp:revision>1</cp:revision>
  <dc:subject/>
  <dc:title>PowerPoint Presentation</dc:title>
</cp:coreProperties>
</file>